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546-5341-4A62-BE74-98AF9570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E49-4600-4684-A6B6-C87B89F9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278-E77B-4DFB-A49B-F4C91019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BFE-320A-41EF-97CB-1DAB1CAA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585-F023-4758-B105-98E3D321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149-29BE-4AA3-97F6-B59B6573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D0A-BF82-4859-9896-7DAD6418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E6C-0F14-42E5-8263-7BCDC0D9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A85-DF56-4D51-876D-43877BC5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4CD-7C1C-4DE5-BC9E-FF39911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9BA-3461-4FCA-96BF-D72E663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021-3A20-4EA8-BFC3-4B5D3D62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d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A26-F55C-4CE5-995C-C9A35972B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d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</a:rPr>
              <a:t>第七章</a:t>
            </a:r>
            <a:r>
              <a:rPr b="0" lang="zh-CN" sz="4400" spc="-1" strike="noStrike" u="sng">
                <a:solidFill>
                  <a:srgbClr val="808000"/>
                </a:solidFill>
                <a:uFillTx/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</a:rPr>
              <a:t>面向对象程序设计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1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类与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2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计类与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3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与方法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导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先要搞清有关基本概念如：类与对象，控件及其属性事件方法程序还有数据环境；其次要学会创建类与对象及其引用；然后要学会面向对象程序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08:18:23Z</dcterms:created>
  <dc:creator>pcn</dc:creator>
  <dc:description/>
  <dc:language>en-US</dc:language>
  <cp:lastModifiedBy>pcn</cp:lastModifiedBy>
  <dcterms:modified xsi:type="dcterms:W3CDTF">2002-01-06T20:42:03Z</dcterms:modified>
  <cp:revision>4</cp:revision>
  <dc:subject/>
  <dc:title>第七章 面向对象程序设计</dc:title>
</cp:coreProperties>
</file>